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F47-6991-4FDF-8825-CE8BFC12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8D9-8448-431D-96C9-3438A415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FDC-D0CC-4E86-BB37-83742C97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DAA-AEFD-4F6B-8368-F94AFDEF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E59-1D32-443B-83FF-01626034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50D-7B66-466B-B17F-81335C2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6EE-2BE2-4848-933A-1122957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E82-DD54-48C1-9EC3-0A0B5420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878-380D-4665-AE15-28BD25E6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361-9D9B-4DB8-A199-46143C1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5E3-4B52-45C4-89AA-BDE4C17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A5C-5E82-49A8-BD36-6D6A074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EEF-57C8-4215-BC52-18BCBF651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7 Dnes vďaky spev vrel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ďaky spev vrel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vetom cel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oslav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pred Boží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 láske sa sklá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r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ám všetkým dopri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dni sobot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 výšin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rád vždy čo tr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nami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pri nás st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ohnivým stĺp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d ľstivým zvod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 ceste žit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chraň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rcovej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 v tmavej n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lnka lúč jas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dne hov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rosy skvost v tr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lnky riek hra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a náhl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iečišťami do m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 každý ho chvá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eľký či ma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y Tvorcu chváľ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eleb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l nám dar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čaká nás v ci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ždy vďač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ho nasledu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6:37Z</dcterms:modified>
  <cp:revision>30</cp:revision>
  <dc:subject/>
  <dc:title>Je veľký náš Pán, on slávy je Kráľ Nech do všetkých strán  spev vrúcnych znie chvál.</dc:title>
</cp:coreProperties>
</file>